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FCB1-78DF-42EB-A4B1-993E067BB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FCA-0543-4ED3-ADA3-4AB5C2517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8C7-9DF1-4A82-899F-55EF23E27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131C-1843-4108-9B5E-11B8FE100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. 1031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619-9AF6-4B4F-BD6F-D30B1E35D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D1E6-0C24-44B4-82CE-266CD795A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. 1031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9524-900C-48F1-BF5B-DFDFEEEA42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с государственной регистрацией откр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429-7226-45CA-8B92-AFB2E74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6F3-32BB-4D2B-9B87-6F3C8F8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2E7-3D0E-40B7-AD4C-C81177B2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B2F-90D5-4854-A0F7-147C0D01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56A-96D4-40F9-9724-06759D6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211-7A8F-44C2-B201-11BD964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F76-930E-4F5E-B1BB-B3C483D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B0C-6C35-427E-A27C-66F9EA3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4E0-6C98-4871-85DC-67213D84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268-BDB4-4A97-9186-45B6BF5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9D4-34D5-4703-B516-3C6C896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272-F939-4ECA-AD80-A5A198F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bef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A5B-2067-4F55-BAF2-733A9AA6B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1428840"/>
            <a:ext cx="85726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Разработка и утверждение административных регламентов предоставления ОИВ Смоленской области государственных услу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1571760" y="4929120"/>
            <a:ext cx="72864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Шаврина Екатерина Владими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начальника отдела организации предоставления государственных услуг Департамента Смоленской области по информационным технологиям, связи и обеспечению предоставления услуг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763520" y="21420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1.11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6"/>
          <p:cNvSpPr/>
          <p:nvPr/>
        </p:nvSpPr>
        <p:spPr>
          <a:xfrm>
            <a:off x="3571920" y="214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олен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 октября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2560" y="114300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рядок рассмотрения  адмрегламентов уполномоченным орг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 административного регламента предоставления государственной услуги направляет в системе электронного документооборота (далее - СЭД) электронную карточку с электронной версией проекта административного регламента предоставления государственной услуги и пояснительной записки, в которой приводится информация об основных предполагаемых улучшениях предоставления государственной услуги в случае принятия соответствующего административного регламента, а также сведения об учете результатов независимой экспертизы (с приложением электронной копии заключения независимой экспертизы),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огласование в Департамент по информационным технолог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экспертизы уполномоченного орг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ингвистической и правовой эксперти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6"/>
          <p:cNvSpPr/>
          <p:nvPr/>
        </p:nvSpPr>
        <p:spPr>
          <a:xfrm>
            <a:off x="3571920" y="214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олен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 октября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3121200"/>
            <a:ext cx="5553000" cy="373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1181160" y="4786200"/>
            <a:ext cx="7962840" cy="64296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123" name="TextBox 11"/>
          <p:cNvSpPr/>
          <p:nvPr/>
        </p:nvSpPr>
        <p:spPr>
          <a:xfrm>
            <a:off x="928800" y="1214280"/>
            <a:ext cx="757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ция по согласованию проектов административных регламентов предоставления государственных услуг в Интегрированной системе электронного документооборота и архива Администрации Смоленской области и органов исполнительной власти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3571920" y="214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олен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 октября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1214280" y="2071800"/>
            <a:ext cx="6526440" cy="4128840"/>
            <a:chOff x="1214280" y="2071800"/>
            <a:chExt cx="6526440" cy="4128840"/>
          </a:xfrm>
        </p:grpSpPr>
        <p:pic>
          <p:nvPicPr>
            <p:cNvPr id="128" name="Picture 3" descr=""/>
            <p:cNvPicPr/>
            <p:nvPr/>
          </p:nvPicPr>
          <p:blipFill>
            <a:blip r:embed="rId2"/>
            <a:stretch/>
          </p:blipFill>
          <p:spPr>
            <a:xfrm>
              <a:off x="1214280" y="2071800"/>
              <a:ext cx="6526440" cy="41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" descr="Безымянный - копия"/>
            <p:cNvPicPr/>
            <p:nvPr/>
          </p:nvPicPr>
          <p:blipFill>
            <a:blip r:embed="rId3"/>
            <a:stretch/>
          </p:blipFill>
          <p:spPr>
            <a:xfrm>
              <a:off x="2860200" y="3858120"/>
              <a:ext cx="145512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Безымянный"/>
            <p:cNvPicPr/>
            <p:nvPr/>
          </p:nvPicPr>
          <p:blipFill>
            <a:blip r:embed="rId4"/>
            <a:stretch/>
          </p:blipFill>
          <p:spPr>
            <a:xfrm>
              <a:off x="1317240" y="4182120"/>
              <a:ext cx="991800" cy="28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12"/>
          <p:cNvSpPr/>
          <p:nvPr/>
        </p:nvSpPr>
        <p:spPr>
          <a:xfrm>
            <a:off x="642960" y="12142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ВЕДОМСТВЕН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8"/>
          <p:cNvSpPr/>
          <p:nvPr/>
        </p:nvSpPr>
        <p:spPr>
          <a:xfrm>
            <a:off x="3500280" y="1928880"/>
            <a:ext cx="5214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новление Администрации Смоле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 18.04.2011 № 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РЕД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новления Администрации Смолен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 18.08.2011 № 4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428760" y="1898640"/>
            <a:ext cx="2724120" cy="355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55" name="TextBox 7"/>
          <p:cNvSpPr/>
          <p:nvPr/>
        </p:nvSpPr>
        <p:spPr>
          <a:xfrm>
            <a:off x="1571760" y="214200"/>
            <a:ext cx="60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AD27-58B0-4F28-B05B-74B4F3E42B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1"/>
          <p:cNvSpPr/>
          <p:nvPr/>
        </p:nvSpPr>
        <p:spPr>
          <a:xfrm>
            <a:off x="642960" y="1357200"/>
            <a:ext cx="7572240" cy="6429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полномочий по разработке и утверждению адмрегламента на основании Н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2"/>
          <p:cNvSpPr/>
          <p:nvPr/>
        </p:nvSpPr>
        <p:spPr>
          <a:xfrm>
            <a:off x="642960" y="2303640"/>
            <a:ext cx="7572240" cy="6426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БЛОК-СХ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3"/>
          <p:cNvSpPr/>
          <p:nvPr/>
        </p:nvSpPr>
        <p:spPr>
          <a:xfrm>
            <a:off x="714240" y="4241880"/>
            <a:ext cx="757260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обходимости, приведение в соответствие Порядка предост- ия госуслуги с действующим законодательством и 210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4"/>
          <p:cNvSpPr/>
          <p:nvPr/>
        </p:nvSpPr>
        <p:spPr>
          <a:xfrm>
            <a:off x="714240" y="5207040"/>
            <a:ext cx="7572600" cy="6429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с участвующими органами (подведомственными  и участниками проек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5"/>
          <p:cNvSpPr/>
          <p:nvPr/>
        </p:nvSpPr>
        <p:spPr>
          <a:xfrm>
            <a:off x="682560" y="3294000"/>
            <a:ext cx="7572600" cy="64296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а адмрегламента в соответствии с Порядком 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6"/>
          <p:cNvSpPr/>
          <p:nvPr/>
        </p:nvSpPr>
        <p:spPr>
          <a:xfrm>
            <a:off x="714240" y="6072120"/>
            <a:ext cx="7572600" cy="6429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независимой эксперт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785880" y="357120"/>
            <a:ext cx="8001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Администрации Смоленской области от 18.04.2011 № 2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в ред. постановления Администрации Смоленской области от 18.08.2011 № 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71680" y="1214280"/>
            <a:ext cx="87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редакция вносит изменения в части наименования под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57120" y="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571760"/>
          <a:ext cx="9144000" cy="5597280"/>
        </p:xfrm>
        <a:graphic>
          <a:graphicData uri="http://schemas.openxmlformats.org/drawingml/2006/table">
            <a:tbl>
              <a:tblPr/>
              <a:tblGrid>
                <a:gridCol w="5286240"/>
                <a:gridCol w="385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нкт 3.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азание об ответственности должностных лиц за соблюдение ими требований административных регламентов предоставления государственных услуг при выполнении административных процедур или административных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ункт «д» пункта 3.4 изложить в следующей реда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) ответственность должностных лиц органов исполнительной власти,  предоставляющих государственные услуги, за несоблюдение ими требований регламентов при выполнении административных процедур (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нкт 3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заявителей, а также  физических и юридических лиц, имеющих право в соответствии с федеральным и (или) областным законодательством либо в силу наделения их заявителями в порядке, установленном федеральным и (или) областным законодательством, полномочиями выступать от их имени при взаимодействии с соответствующими органами исполнительной власти и организациями при предоставлении государственной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б) </a:t>
                      </a: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круг заявител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нкт 3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 результат предоставления государственной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) </a:t>
                      </a: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описание результа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я государственной услуги;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785880" y="357120"/>
            <a:ext cx="8001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Администрации Смоленской области от 18.04.2011 № 2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в ред. постановления Администрации Смоленской области от 18.08.2011 № 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571680" y="1214280"/>
            <a:ext cx="87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редакция вносит изменения в части наименования под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7120" y="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571760"/>
          <a:ext cx="9144000" cy="41814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 правовые основания для предоставления государственной услуг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) 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ень нормативных правовых актов, регулирующих отношения, возникающие в связи с предоставлением государственной услуги, с </a:t>
                      </a:r>
                      <a:r>
                        <a:rPr b="1" lang="ru-RU" sz="17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казанием их реквизитов и источников официального опубликова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) исчерпывающий перечень документов, необходимых в соответствии с федеральным и (или) областным законодательством для предоставления государственной услуги, услуг,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ых и обязательных для предоставления государственной услуги, и информация о способах их получения заявителями, в том числе в электронной форме, и порядке их представл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) исчерпывающий перечень документов,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ых в соответствии с федеральным и (или) областным законодательством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предоставления государственной услуги, услуг, необходимых и обязательных для предоставления государственной услуги, </a:t>
                      </a:r>
                      <a:r>
                        <a:rPr b="1" lang="ru-RU" sz="17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подлежащих представлению заявителе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785880" y="357120"/>
            <a:ext cx="8001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Администрации Смоленской области от 18.04.2011 № 2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в ред. постановления Администрации Смоленской области от 18.08.2011 № 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71680" y="1214280"/>
            <a:ext cx="87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редакция вносит изменения в части наименования под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57120" y="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571760"/>
          <a:ext cx="9144000" cy="5684760"/>
        </p:xfrm>
        <a:graphic>
          <a:graphicData uri="http://schemas.openxmlformats.org/drawingml/2006/table">
            <a:tbl>
              <a:tblPr/>
              <a:tblGrid>
                <a:gridCol w="4000680"/>
                <a:gridCol w="51433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ено пунк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е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исчерпывающий перечень документов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ых в соответствии с федеральными и областными нормативными правовыми акта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предоставления государственной услуги,  услуг, которые являются необходимыми и обязательными для предоставления государственной услуги, которые находятся в распоряжении государственных органов, органов местного самоуправления и иных организаций и </a:t>
                      </a:r>
                      <a:r>
                        <a:rPr b="1" lang="ru-RU" sz="18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которые заявитель вправе представить по собственной инициа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) срок регистрации запроса заявителя о предоставлении государственной услуги, услуги организации, участвующей в предоставлении государственной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) срок и порядок регистрации запроса заявителя о предоставлении государственной услуги и услуги, предоставляемой организацией, участвующей в предоставлении государственной услуги, </a:t>
                      </a:r>
                      <a:r>
                        <a:rPr b="1" lang="ru-RU" sz="18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в том числе в электронной форм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80" name="Группа 13"/>
          <p:cNvGrpSpPr/>
          <p:nvPr/>
        </p:nvGrpSpPr>
        <p:grpSpPr>
          <a:xfrm>
            <a:off x="857160" y="2214720"/>
            <a:ext cx="3071880" cy="2286000"/>
            <a:chOff x="857160" y="2214720"/>
            <a:chExt cx="3071880" cy="2286000"/>
          </a:xfrm>
        </p:grpSpPr>
        <p:sp>
          <p:nvSpPr>
            <p:cNvPr id="81" name="7-конечная звезда 11"/>
            <p:cNvSpPr/>
            <p:nvPr/>
          </p:nvSpPr>
          <p:spPr>
            <a:xfrm>
              <a:off x="857160" y="2214720"/>
              <a:ext cx="3071880" cy="2286000"/>
            </a:xfrm>
            <a:prstGeom prst="pie">
              <a:avLst/>
            </a:prstGeom>
            <a:solidFill>
              <a:srgbClr val="e6b9b8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2"/>
            <p:cNvSpPr/>
            <p:nvPr/>
          </p:nvSpPr>
          <p:spPr>
            <a:xfrm>
              <a:off x="1643040" y="307188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ЕЖВЕ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785880" y="357120"/>
            <a:ext cx="8001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Администрации Смоленской области от 18.04.2011 № 2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в ред. постановления Администрации Смоленской области от 18.08.2011 № 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571680" y="1214280"/>
            <a:ext cx="87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редакция вносит изменения в части ДОПОЛНЕНИЙ в п. 3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57120" y="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571760"/>
          <a:ext cx="9001080" cy="5406840"/>
        </p:xfrm>
        <a:graphic>
          <a:graphicData uri="http://schemas.openxmlformats.org/drawingml/2006/table">
            <a:tbl>
              <a:tblPr/>
              <a:tblGrid>
                <a:gridCol w="9001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я ред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остав документов, которые находятся в распоряжении органа, предоставляющего государственную услугу, а также организации, участвующей в предоставлении государственных и муниципальных услуг, и которые должны быть представлены в иные органы и организа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состав документов, которые необходимы органу, предоставляющему государственную услугу, но находятся в иных органах и организ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орядок осуществления в электронной форме, в том числе с использованием федеральной государственной информационной системы «Единый портал государственных и муниципальных услуг (функций)», региональной государственной информационной системы «Портал государственных и муниципальных услуг (функций) Смоленской области», следующих административных процеду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 в установленном порядке информации заявителям и обеспечение доступа заявителей к сведениям о государственной услуг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ителем запроса и иных документов, необходимых для предоставления государственной услуги, и прием таких запроса и докумен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заявителем сведений о ходе выполнения запроса о предоставлении государственной услуг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федерального органа исполнительной власти с иными органами государственной власти, органами местного самоуправления и организациями, участвующими в предоставлении государственных услуг, в том числе порядок и условия такого взаимодейств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заявителем результата предоставления государственной услуги, если иное не установлено федеральным зак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действия, необходимые для предоставления государственной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Умножение 8">
            <a:hlinkClick r:id="" action="ppaction://hlinkshowjump?jump=nextslide"/>
          </p:cNvPr>
          <p:cNvSpPr/>
          <p:nvPr/>
        </p:nvSpPr>
        <p:spPr>
          <a:xfrm>
            <a:off x="3500280" y="1500120"/>
            <a:ext cx="2000520" cy="2071800"/>
          </a:xfrm>
          <a:prstGeom prst="pi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Диаграмма 4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5643360" cy="3214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3571920" y="214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олен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 октября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500800" y="1714680"/>
            <a:ext cx="364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 1 января 2012 года  необходимо завершить регламентацию  услуг по постановлению  Администрации Смоленской области № 2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 требованиям 210-ФЗ принятие регламентов должно быть завершено до 1 июля 2012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подложка 3-00 копия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4" descr="подложка 3-00 копия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тивные регла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Автофигура 30"/>
          <p:cNvSpPr/>
          <p:nvPr/>
        </p:nvSpPr>
        <p:spPr>
          <a:xfrm>
            <a:off x="4643280" y="1628640"/>
            <a:ext cx="389160" cy="360360"/>
          </a:xfrm>
          <a:prstGeom prst="downArrow">
            <a:avLst>
              <a:gd name="adj1" fmla="val 45306"/>
              <a:gd name="adj2" fmla="val 24306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Автофигура 31"/>
          <p:cNvSpPr/>
          <p:nvPr/>
        </p:nvSpPr>
        <p:spPr>
          <a:xfrm>
            <a:off x="4643280" y="2522520"/>
            <a:ext cx="389160" cy="433440"/>
          </a:xfrm>
          <a:prstGeom prst="downArrow">
            <a:avLst>
              <a:gd name="adj1" fmla="val 45306"/>
              <a:gd name="adj2" fmla="val 2707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Автофигура 32"/>
          <p:cNvSpPr/>
          <p:nvPr/>
        </p:nvSpPr>
        <p:spPr>
          <a:xfrm>
            <a:off x="4643280" y="4292640"/>
            <a:ext cx="433440" cy="453960"/>
          </a:xfrm>
          <a:prstGeom prst="downArrow">
            <a:avLst>
              <a:gd name="adj1" fmla="val 45306"/>
              <a:gd name="adj2" fmla="val 25456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Автофигура 33"/>
          <p:cNvSpPr/>
          <p:nvPr/>
        </p:nvSpPr>
        <p:spPr>
          <a:xfrm>
            <a:off x="4643280" y="5214960"/>
            <a:ext cx="389160" cy="500040"/>
          </a:xfrm>
          <a:prstGeom prst="downArrow">
            <a:avLst>
              <a:gd name="adj1" fmla="val 45306"/>
              <a:gd name="adj2" fmla="val 24289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Автофигура 18"/>
          <p:cNvSpPr/>
          <p:nvPr/>
        </p:nvSpPr>
        <p:spPr>
          <a:xfrm>
            <a:off x="1490760" y="1930320"/>
            <a:ext cx="6662520" cy="5749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в Интернете проекта административного регламента не менее чем за 1 месяц до соглас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Автофигура 22"/>
          <p:cNvSpPr/>
          <p:nvPr/>
        </p:nvSpPr>
        <p:spPr>
          <a:xfrm>
            <a:off x="1492200" y="1357200"/>
            <a:ext cx="6623280" cy="337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проекта административного регл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Автофигура 23"/>
          <p:cNvSpPr/>
          <p:nvPr/>
        </p:nvSpPr>
        <p:spPr>
          <a:xfrm>
            <a:off x="1528920" y="3009960"/>
            <a:ext cx="6624360" cy="337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ая эксперт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Автофигура 25"/>
          <p:cNvSpPr/>
          <p:nvPr/>
        </p:nvSpPr>
        <p:spPr>
          <a:xfrm>
            <a:off x="1403280" y="3732120"/>
            <a:ext cx="6564240" cy="5749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иза  уполномоченного орга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клю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8"/>
          <p:cNvSpPr/>
          <p:nvPr/>
        </p:nvSpPr>
        <p:spPr>
          <a:xfrm>
            <a:off x="1643040" y="5857920"/>
            <a:ext cx="6570720" cy="337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29"/>
          <p:cNvSpPr/>
          <p:nvPr/>
        </p:nvSpPr>
        <p:spPr>
          <a:xfrm>
            <a:off x="1571760" y="4786200"/>
            <a:ext cx="6553080" cy="337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и государственная реги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е 34"/>
          <p:cNvSpPr/>
          <p:nvPr/>
        </p:nvSpPr>
        <p:spPr>
          <a:xfrm rot="16200000">
            <a:off x="-974880" y="3915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ект административного регламента + заключение н/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Линия 35"/>
          <p:cNvSpPr/>
          <p:nvPr/>
        </p:nvSpPr>
        <p:spPr>
          <a:xfrm>
            <a:off x="111600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Линия 36"/>
          <p:cNvSpPr/>
          <p:nvPr/>
        </p:nvSpPr>
        <p:spPr>
          <a:xfrm>
            <a:off x="111600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Линия 37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Линия 3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Линия 39"/>
          <p:cNvSpPr/>
          <p:nvPr/>
        </p:nvSpPr>
        <p:spPr>
          <a:xfrm>
            <a:off x="1116000" y="3357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Линия 40"/>
          <p:cNvSpPr/>
          <p:nvPr/>
        </p:nvSpPr>
        <p:spPr>
          <a:xfrm>
            <a:off x="973080" y="450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Автофигура 31"/>
          <p:cNvSpPr/>
          <p:nvPr/>
        </p:nvSpPr>
        <p:spPr>
          <a:xfrm>
            <a:off x="4646520" y="3357720"/>
            <a:ext cx="389160" cy="374400"/>
          </a:xfrm>
          <a:prstGeom prst="downArrow">
            <a:avLst>
              <a:gd name="adj1" fmla="val 45306"/>
              <a:gd name="adj2" fmla="val 24306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5:20:10Z</dcterms:created>
  <dc:creator>Morozova_OS</dc:creator>
  <dc:description/>
  <dc:language>en-US</dc:language>
  <cp:lastModifiedBy>Shavrina</cp:lastModifiedBy>
  <dcterms:modified xsi:type="dcterms:W3CDTF">2011-11-11T13:58:36Z</dcterms:modified>
  <cp:revision>246</cp:revision>
  <dc:subject/>
  <dc:title>Слайд 1</dc:title>
</cp:coreProperties>
</file>